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22C9B-1A15-4B75-A038-E87FD9EE83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0CC-51E3-4F4F-9D04-811B50A4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837-01E9-4231-A2C5-47718BF1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6BD-C454-4F60-ADEB-F295E8DB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E8F-10D9-4B53-A481-A39596F5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EF2-A7CF-4418-A7E0-42F898E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D1E-D867-4D55-9EB8-5840FF1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AF5-B354-46A8-981D-32E74A53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90B-AAEA-4DC5-8861-67405DF7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3A3-1A96-431A-AC37-925279E8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CB9-6C06-4B24-9AEB-55EF6E7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E7A-47F4-42B6-BAE7-C0F3B82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D8D-674A-4764-962B-6289829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84AC-97FA-4C44-BCC0-47029F7CB54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России около 5,5 млн человек нуждаются в постоянном патронажном ух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аселение пяти областных гор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квалифицированного патронажного ухода подавляющее большинство этих людей не получ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даже сказать, что есть он только у един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 этом шла речь на международной научно-практической конференции «Патронажный уход в XXI веке», которая состоялась 17 июня 2015 в Моск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77440" y="360360"/>
            <a:ext cx="90694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легчения этих манипуляций применяются различные функциональные кр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716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11640" y="226044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264360" y="1800360"/>
            <a:ext cx="3600360" cy="280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6360" y="468000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о, они позволяют изменять положение больного лишь в одной плоскости. Чтобы повернуть его, к примеру, на бок, придётся его приподнять, что одному человеку часто не по с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000" y="244800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61080" y="2448000"/>
            <a:ext cx="4714560" cy="279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7640" y="5543640"/>
            <a:ext cx="9072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жалуй, таким способом возможно повернуть больного на бок. Хотя для этого и придётся приложить определённые усилия, всё же они меньше тех, которые бы потребовались для его поворота в кровати классической или функциональной предыдущего поко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227160"/>
            <a:ext cx="9070920" cy="18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ее время появились кровати нового типа, позволяющие осуществить эту операцию менее трудоёмким для персонала и более щадящим для больного мет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328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431640"/>
            <a:ext cx="928872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эти усилия всё равно остаются значительными, а сами манипуляции с телом больного — болезн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в большинстве случаев это обеспечивает лежачему больному максимально возможную для его состояния подвижность, в идеале - которую он сможет осуществлять доступными ему весьма малыми и ограниченными с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если больной лишён и той подвижности, которая позволила бы ему пользоваться пультом управления одной из производимых ныне версий кровати, излишняя (а часто и непомерная) нагрузка на обслуживающий персонал неоправ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ни одна из производимых ныне версий не позволяет перевернуть больного на 180 градусов с минимальными усилиями и минимальным травмированием. Это отчасти возможно лишь на кровати очень широкой, какие едва ли встречаются в современных кли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503280"/>
            <a:ext cx="9215280" cy="67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месте с тем, решение — 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о позволяет производить любые манипуляции с телом больного сколь угодно малыми силами, минимально возможным травмированием и стоит не дороже большинства имеющихся в продаже подобных устр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т 5 назад я уже обращался ко многим российским (И для проверки вшивости - даже одному зарубежному. Проверки на вшивость он не прошёл.) производителям подобного оборудования с этим предложением, и результатом был всего один звонок, и то ошибочный — менеджэр просто невнимательно прочла моё письмо и подумала, будто бы я хочу что-то куп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7280" y="360360"/>
            <a:ext cx="9504360" cy="70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[1] - В.Н. Ослопов, О.В. Богоявленская. "Общий уход за больными в терапевтической клинике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[2] - Н.В. Туркина, А.Б. Филенко. "Общий уход за больными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armed.r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lektsia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://www.meduhod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miloserdie.r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msmag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permedcom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://platina.spb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promedic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zdorovieinfo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aachener-nachrichten.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amazon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hesomed.en.made-in-china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hospitalbedscn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www.medicalexpo.c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s://rehabmart.com.s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576360"/>
            <a:ext cx="90709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, и это — далеко не всё. Многие вполне молодые люди оказались в полной неподвижности вследствие тяжёлых травм, операций, ожогов и болезней. Каждый день полной неподвижности снижает их шансы к реабили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ражениях спинного мозга паралич может затронуть верхнюю или нижнюю половину тела или же все четыре конечности. Cпособность больных к самообслуживанию зависит от тяжести поражения. Но она всегда не достаточна, и требуются либо помощники, либо специальное оборудование, позволяющее больному обслуживать себя своими весьма ограниченными си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286920"/>
            <a:ext cx="9070920" cy="67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3000"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ельный режим более физиологичен, если пациент может сам поворачиваться, занимать удобное положение и присаживаться в постели. Нарушение двигательной активности может повлечь за собой тяжёлые последствия для пациента, вплоть до смертельного ис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грозных осложнений длительного постельного режима являются тромбозы и тромбоэмболии. Непод­вижное состояние конечности, сжатой собственной тяжестью или давящими предметами, например подушкой, подложенной под колено, приводит к застою венозной крови, так как отсутствуют активные мышечные сокращения, участвующие в проталкивании крови по венам. Застою крови способствует согнутое или напряженное положение конечности, уложенной не­удобно, но даже в случае, когда все части тела расположены идеальным образом, их неподвижность всё равно приводит к застоям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9070920" cy="676764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лишь для профилактики пролежней (чего не достаточно), требуется [1]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Каждые 1,5-2 ч следует менять положение больног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Необходимо расправлять складки на постели и бель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Следует протирать кожу дезинфицирующим раствор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Нужно немедленно менять мокрое или загрязнённое бельё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Следует использовать подкладные резиновые круги, помещённые в чехол или покрыт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лён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Необходимо своевременно умывать и подмывать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720" y="287280"/>
            <a:ext cx="8783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ая из этих мер требует манипуляций с телом больного, часто с приложением значительной физической силы - помимо немалого веса больного, его расслабленное тело крайне неудобно в обращении - штанга имеет гриф, за который можно ухватиться, ящик - жёсткие грани и неизменную форму, расслабленное же тело человека всего этого не имеет, и даже хуже - многие его части чрезвычайно чувствительны к применению си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ые манипуляции не только тяжелы и даже опасны для медперсонала (как правило, не имеющего опыта работы с большими тяжестями), но также болезненны и опасны (вплоть до смертельного травматического шока - например, в случае обширных ожогов и/или множественных переломов.) для боль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431640"/>
            <a:ext cx="907092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6000"/>
          </a:bodyPr>
          <a:p>
            <a:pPr marL="32904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те внимание на иллюстрацию из того же источника [1]- медицинский работник вовсе не атлетического сложения запросто приподнимает больную одной рукой, а другой в то же время не спеша аккуратно раскатывает чистую простынь и скатывает гряз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00360" y="3070080"/>
            <a:ext cx="626400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4520" y="287280"/>
            <a:ext cx="9069480" cy="66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му медработнику придётся поднять одной рукой вес около 80% веса больной, то есть от 50 до 100 кГ, да ещё и согнувшись в поясниц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сле такого подвига этот медработник немедленно не окажется на соседней койке, он сможет уверенно выступать на чемпионатах по тяжелой атлетике, а крепость его пояснично-крестцового отдела должна быть немедленно занесена в книгу рекордов Гинн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70920" cy="18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как выглядят подобные работы на самом деле [2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0720" y="2303640"/>
            <a:ext cx="4967280" cy="42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9640" y="2232000"/>
            <a:ext cx="3527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ьно крупный мужина и две женщины с видимым усилием перекладывают больную с кровати на тележ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360360"/>
            <a:ext cx="9069480" cy="66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— довольно тяжёлая работа, и подобную работу в рассматриваемых тяжёлых случаях следует выполнять каждые 1,5-2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меется, противопролежневый матрас позволит в какой-то мере избежать пролежней, однако при длительном лежании в одном положении появляются и другие проблемы, связанные со снижением тонуса мышц, сосудов, неподвижностью суставов, деградации костей и практически всех органо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 проведение многих манипуляций всё равно требует поворачивания больного, особенно в случае обширных повреждений, например, ож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1T12:15:43Z</dcterms:created>
  <dc:creator/>
  <dc:description/>
  <dc:language>en-US</dc:language>
  <cp:lastModifiedBy/>
  <dcterms:modified xsi:type="dcterms:W3CDTF">2020-03-21T13:48:10Z</dcterms:modified>
  <cp:revision>8</cp:revision>
  <dc:subject/>
  <dc:title/>
</cp:coreProperties>
</file>